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210-E29A-4D65-9F9B-643F46CD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9482-3C13-406B-BD1E-19FE8E6C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12F-30DD-4220-AB91-18B886A9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C379-A8FB-4041-B286-53982346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C701-7E83-431E-A3B4-9234F04D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694-1EC9-456B-8327-88BCE991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A05B-0530-4A17-96E2-5FC51A6D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9AA-1DB1-41E9-BB78-09FA36AA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A6E-3062-45B5-9AFA-47CA836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276-D8DA-444F-9AB6-4B66A7CB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53B-D2D2-4A15-8A76-B2C8062B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2FB-FC36-4D3D-84C4-B812FEFA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BEBB-C2BF-4D6B-B2F7-8E2B18345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24000" y="549360"/>
            <a:ext cx="8569080" cy="5759280"/>
            <a:chOff x="324000" y="549360"/>
            <a:chExt cx="8569080" cy="5759280"/>
          </a:xfrm>
        </p:grpSpPr>
        <p:sp>
          <p:nvSpPr>
            <p:cNvPr id="42" name=""/>
            <p:cNvSpPr/>
            <p:nvPr/>
          </p:nvSpPr>
          <p:spPr>
            <a:xfrm>
              <a:off x="2268360" y="1052640"/>
              <a:ext cx="6624720" cy="525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32360" y="54936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0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2728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1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Floating Poi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075280" y="515772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6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Spread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77080" y="306864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5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rusting Form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76720" y="3789360"/>
              <a:ext cx="129564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P4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of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0360" y="1630440"/>
              <a:ext cx="1295280" cy="1079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2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Tempora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ropert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7280" y="3070080"/>
              <a:ext cx="1295280" cy="1079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WP3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ombining Stat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nalysis Techniqu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4" idx="4"/>
              <a:endCxn id="49" idx="0"/>
            </p:cNvCxnSpPr>
            <p:nvPr/>
          </p:nvCxnSpPr>
          <p:spPr>
            <a:xfrm rot="16200000">
              <a:off x="3094920" y="2889720"/>
              <a:ext cx="360720" cy="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324000" y="1916280"/>
              <a:ext cx="1295280" cy="10792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NTL 2005 CA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(C Analysis Toolbox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4"/>
            </p:cNvCxnSpPr>
            <p:nvPr/>
          </p:nvCxnSpPr>
          <p:spPr>
            <a:xfrm flipH="1" rot="16200000">
              <a:off x="1060560" y="2906280"/>
              <a:ext cx="1119600" cy="1297440"/>
            </a:xfrm>
            <a:prstGeom prst="bentConnector3">
              <a:avLst>
                <a:gd name="adj1" fmla="val 60373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53" name=""/>
            <p:cNvCxnSpPr>
              <a:stCxn id="51" idx="4"/>
              <a:endCxn id="49" idx="2"/>
            </p:cNvCxnSpPr>
            <p:nvPr/>
          </p:nvCxnSpPr>
          <p:spPr>
            <a:xfrm flipH="1" rot="16200000">
              <a:off x="1492200" y="2474640"/>
              <a:ext cx="614880" cy="1656000"/>
            </a:xfrm>
            <a:prstGeom prst="bentConnector2">
              <a:avLst/>
            </a:prstGeom>
            <a:ln w="9360">
              <a:solidFill>
                <a:srgbClr val="80808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49" idx="4"/>
              <a:endCxn id="45" idx="2"/>
            </p:cNvCxnSpPr>
            <p:nvPr/>
          </p:nvCxnSpPr>
          <p:spPr>
            <a:xfrm flipH="1" rot="16200000">
              <a:off x="3400920" y="4023360"/>
              <a:ext cx="1548360" cy="1800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46" idx="4"/>
              <a:endCxn id="45" idx="6"/>
            </p:cNvCxnSpPr>
            <p:nvPr/>
          </p:nvCxnSpPr>
          <p:spPr>
            <a:xfrm rot="5400000">
              <a:off x="6172920" y="4345920"/>
              <a:ext cx="1549800" cy="11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"/>
            <p:cNvCxnSpPr>
              <a:stCxn id="47" idx="4"/>
              <a:endCxn id="45" idx="0"/>
            </p:cNvCxnSpPr>
            <p:nvPr/>
          </p:nvCxnSpPr>
          <p:spPr>
            <a:xfrm rot="5400000">
              <a:off x="5579280" y="5012640"/>
              <a:ext cx="28908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"/>
            <p:cNvCxnSpPr>
              <a:stCxn id="48" idx="4"/>
              <a:endCxn id="49" idx="7"/>
            </p:cNvCxnSpPr>
            <p:nvPr/>
          </p:nvCxnSpPr>
          <p:spPr>
            <a:xfrm rot="5400000">
              <a:off x="4001040" y="2441520"/>
              <a:ext cx="518760" cy="1055520"/>
            </a:xfrm>
            <a:prstGeom prst="bentConnector5">
              <a:avLst>
                <a:gd name="adj1" fmla="val 322430"/>
                <a:gd name="adj2" fmla="val 226714"/>
                <a:gd name="adj3" fmla="val 247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"/>
            <p:cNvCxnSpPr>
              <a:stCxn id="49" idx="6"/>
              <a:endCxn id="46" idx="2"/>
            </p:cNvCxnSpPr>
            <p:nvPr/>
          </p:nvCxnSpPr>
          <p:spPr>
            <a:xfrm flipV="1">
              <a:off x="3922560" y="3608640"/>
              <a:ext cx="29548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59" name=""/>
          <p:cNvCxnSpPr>
            <a:stCxn id="48" idx="6"/>
            <a:endCxn id="46" idx="0"/>
          </p:cNvCxnSpPr>
          <p:nvPr/>
        </p:nvCxnSpPr>
        <p:spPr>
          <a:xfrm>
            <a:off x="5435640" y="2170080"/>
            <a:ext cx="2089440" cy="89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4:21:38Z</dcterms:created>
  <dc:creator>inet</dc:creator>
  <dc:description/>
  <dc:language>en-US</dc:language>
  <cp:lastModifiedBy>virgile</cp:lastModifiedBy>
  <dcterms:modified xsi:type="dcterms:W3CDTF">2008-03-26T09:58:41Z</dcterms:modified>
  <cp:revision>7</cp:revision>
  <dc:subject/>
  <dc:title>Diapositive 1</dc:title>
</cp:coreProperties>
</file>