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B89-BD7D-4BCC-B5B6-FE4794A2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01A-ABEA-4AAD-8025-FB79C622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0A7-6023-4E59-BB17-800420F5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4FDE-A6DF-4EA7-9EA5-9B94C461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892-4FF2-4B0A-A056-08521DA6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BCC-FD91-45AC-95E9-6C8BB548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944-1662-448E-88DD-E2B0ED7D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D061-C04F-4DD7-8180-AD412F92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191-CEA1-43E2-BC54-2C914444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16D-CCED-4062-A802-1DB6ECB9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BE3-B375-454D-B4FB-E002EF1B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DF0-9433-4DE4-A123-30981670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CECB-3311-4FB4-9C91-4E6CEB8A9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4000" y="549360"/>
            <a:ext cx="8569080" cy="5759280"/>
            <a:chOff x="324000" y="549360"/>
            <a:chExt cx="8569080" cy="5759280"/>
          </a:xfrm>
        </p:grpSpPr>
        <p:sp>
          <p:nvSpPr>
            <p:cNvPr id="42" name=""/>
            <p:cNvSpPr/>
            <p:nvPr/>
          </p:nvSpPr>
          <p:spPr>
            <a:xfrm>
              <a:off x="2268360" y="1052640"/>
              <a:ext cx="6624720" cy="525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32360" y="549360"/>
              <a:ext cx="1295280" cy="107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P0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27280" y="1630440"/>
              <a:ext cx="1295280" cy="107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1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Floating Poi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75280" y="5157720"/>
              <a:ext cx="129528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6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preading Stat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77080" y="3068640"/>
              <a:ext cx="129528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5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rusting Form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76720" y="3789360"/>
              <a:ext cx="129564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P4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of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40360" y="1630440"/>
              <a:ext cx="1295280" cy="107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2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empora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roper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27280" y="3070080"/>
              <a:ext cx="129528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3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ombining Stat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nalysis Techniq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4" idx="4"/>
              <a:endCxn id="49" idx="0"/>
            </p:cNvCxnSpPr>
            <p:nvPr/>
          </p:nvCxnSpPr>
          <p:spPr>
            <a:xfrm rot="16200000">
              <a:off x="3094920" y="2889720"/>
              <a:ext cx="360720" cy="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324000" y="1916280"/>
              <a:ext cx="1295280" cy="10792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NTL 2005 CA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(C Analysis Toolbox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4"/>
            </p:cNvCxnSpPr>
            <p:nvPr/>
          </p:nvCxnSpPr>
          <p:spPr>
            <a:xfrm flipH="1" rot="16200000">
              <a:off x="1060560" y="2906280"/>
              <a:ext cx="1119600" cy="1297440"/>
            </a:xfrm>
            <a:prstGeom prst="bentConnector3">
              <a:avLst>
                <a:gd name="adj1" fmla="val 60373"/>
              </a:avLst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>
              <a:stCxn id="51" idx="4"/>
              <a:endCxn id="49" idx="2"/>
            </p:cNvCxnSpPr>
            <p:nvPr/>
          </p:nvCxnSpPr>
          <p:spPr>
            <a:xfrm flipH="1" rot="16200000">
              <a:off x="1492200" y="2474640"/>
              <a:ext cx="614880" cy="1656000"/>
            </a:xfrm>
            <a:prstGeom prst="bentConnector2">
              <a:avLst/>
            </a:prstGeom>
            <a:ln w="9360">
              <a:solidFill>
                <a:srgbClr val="80808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9" idx="4"/>
              <a:endCxn id="45" idx="2"/>
            </p:cNvCxnSpPr>
            <p:nvPr/>
          </p:nvCxnSpPr>
          <p:spPr>
            <a:xfrm flipH="1" rot="16200000">
              <a:off x="3400920" y="4023360"/>
              <a:ext cx="1548360" cy="1800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46" idx="4"/>
              <a:endCxn id="45" idx="6"/>
            </p:cNvCxnSpPr>
            <p:nvPr/>
          </p:nvCxnSpPr>
          <p:spPr>
            <a:xfrm rot="5400000">
              <a:off x="6172920" y="4345920"/>
              <a:ext cx="1549800" cy="11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7" idx="4"/>
              <a:endCxn id="45" idx="0"/>
            </p:cNvCxnSpPr>
            <p:nvPr/>
          </p:nvCxnSpPr>
          <p:spPr>
            <a:xfrm rot="5400000">
              <a:off x="5579280" y="5012640"/>
              <a:ext cx="28908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48" idx="4"/>
              <a:endCxn id="49" idx="7"/>
            </p:cNvCxnSpPr>
            <p:nvPr/>
          </p:nvCxnSpPr>
          <p:spPr>
            <a:xfrm rot="5400000">
              <a:off x="4001040" y="2441520"/>
              <a:ext cx="518760" cy="1055520"/>
            </a:xfrm>
            <a:prstGeom prst="bentConnector5">
              <a:avLst>
                <a:gd name="adj1" fmla="val 322430"/>
                <a:gd name="adj2" fmla="val 226714"/>
                <a:gd name="adj3" fmla="val 2479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49" idx="6"/>
              <a:endCxn id="46" idx="2"/>
            </p:cNvCxnSpPr>
            <p:nvPr/>
          </p:nvCxnSpPr>
          <p:spPr>
            <a:xfrm flipV="1">
              <a:off x="3922560" y="3608640"/>
              <a:ext cx="295488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59" name=""/>
          <p:cNvCxnSpPr>
            <a:stCxn id="48" idx="6"/>
            <a:endCxn id="46" idx="0"/>
          </p:cNvCxnSpPr>
          <p:nvPr/>
        </p:nvCxnSpPr>
        <p:spPr>
          <a:xfrm>
            <a:off x="5435640" y="2170080"/>
            <a:ext cx="2089440" cy="89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4:21:38Z</dcterms:created>
  <dc:creator>inet</dc:creator>
  <dc:description/>
  <dc:language>en-US</dc:language>
  <cp:lastModifiedBy>virgile</cp:lastModifiedBy>
  <dcterms:modified xsi:type="dcterms:W3CDTF">2008-03-26T09:58:41Z</dcterms:modified>
  <cp:revision>7</cp:revision>
  <dc:subject/>
  <dc:title>Diapositive 1</dc:title>
</cp:coreProperties>
</file>