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810-8D5C-45B4-8209-1B2696EE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37F-5E41-4CEE-AAA7-4512A5BF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E47-2FDA-4BB9-8B89-C62CC0A8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843-086F-4CDF-875D-9E6BB0F5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4F7-11C9-42DB-944F-EC7B1701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893-DC4F-4306-A38D-8E548AB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0FE-3984-4DC9-A857-AA515BC6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1AB-3CD2-494B-B10B-E25B299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0E5-67C6-4FCA-B93F-F353EB11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121-6A8E-4981-91D4-6A9E6AB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C2A-3157-4695-A8AD-D81509E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7D7-3936-4914-9DDC-F75B5035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2194-2662-401C-9F20-A2D42AEB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549360"/>
            <a:ext cx="8569080" cy="5759280"/>
            <a:chOff x="324000" y="549360"/>
            <a:chExt cx="8569080" cy="5759280"/>
          </a:xfrm>
        </p:grpSpPr>
        <p:sp>
          <p:nvSpPr>
            <p:cNvPr id="42" name=""/>
            <p:cNvSpPr/>
            <p:nvPr/>
          </p:nvSpPr>
          <p:spPr>
            <a:xfrm>
              <a:off x="2268360" y="1052640"/>
              <a:ext cx="6624720" cy="525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32360" y="54936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0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2728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1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loating Poi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5280" y="515772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6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pread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77080" y="306864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5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usting Form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6720" y="3789360"/>
              <a:ext cx="1295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4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036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2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empo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7280" y="307008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3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mbin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4" idx="4"/>
              <a:endCxn id="49" idx="0"/>
            </p:cNvCxnSpPr>
            <p:nvPr/>
          </p:nvCxnSpPr>
          <p:spPr>
            <a:xfrm rot="16200000">
              <a:off x="3094920" y="2889720"/>
              <a:ext cx="360720" cy="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324000" y="1916280"/>
              <a:ext cx="1295280" cy="1079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NTL 2005 C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C Analysis Toolbox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4"/>
            </p:cNvCxnSpPr>
            <p:nvPr/>
          </p:nvCxnSpPr>
          <p:spPr>
            <a:xfrm flipH="1" rot="16200000">
              <a:off x="1060560" y="2906280"/>
              <a:ext cx="1119600" cy="1297440"/>
            </a:xfrm>
            <a:prstGeom prst="bentConnector3">
              <a:avLst>
                <a:gd name="adj1" fmla="val 60373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51" idx="4"/>
              <a:endCxn id="49" idx="2"/>
            </p:cNvCxnSpPr>
            <p:nvPr/>
          </p:nvCxnSpPr>
          <p:spPr>
            <a:xfrm flipH="1" rot="16200000">
              <a:off x="1492200" y="2474640"/>
              <a:ext cx="614880" cy="1656000"/>
            </a:xfrm>
            <a:prstGeom prst="bentConnector2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4"/>
              <a:endCxn id="45" idx="2"/>
            </p:cNvCxnSpPr>
            <p:nvPr/>
          </p:nvCxnSpPr>
          <p:spPr>
            <a:xfrm flipH="1" rot="16200000">
              <a:off x="3400920" y="4023360"/>
              <a:ext cx="1548360" cy="18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6" idx="4"/>
              <a:endCxn id="45" idx="6"/>
            </p:cNvCxnSpPr>
            <p:nvPr/>
          </p:nvCxnSpPr>
          <p:spPr>
            <a:xfrm rot="5400000">
              <a:off x="6172920" y="4345920"/>
              <a:ext cx="1549800" cy="11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7" idx="4"/>
              <a:endCxn id="45" idx="0"/>
            </p:cNvCxnSpPr>
            <p:nvPr/>
          </p:nvCxnSpPr>
          <p:spPr>
            <a:xfrm rot="5400000">
              <a:off x="5579280" y="5012640"/>
              <a:ext cx="2890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4"/>
              <a:endCxn id="49" idx="7"/>
            </p:cNvCxnSpPr>
            <p:nvPr/>
          </p:nvCxnSpPr>
          <p:spPr>
            <a:xfrm rot="5400000">
              <a:off x="4001040" y="2441520"/>
              <a:ext cx="518760" cy="1055520"/>
            </a:xfrm>
            <a:prstGeom prst="bentConnector5">
              <a:avLst>
                <a:gd name="adj1" fmla="val 322430"/>
                <a:gd name="adj2" fmla="val 226714"/>
                <a:gd name="adj3" fmla="val 247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9" idx="6"/>
              <a:endCxn id="46" idx="2"/>
            </p:cNvCxnSpPr>
            <p:nvPr/>
          </p:nvCxnSpPr>
          <p:spPr>
            <a:xfrm flipV="1">
              <a:off x="3922560" y="3608640"/>
              <a:ext cx="29548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9" name=""/>
          <p:cNvCxnSpPr>
            <a:stCxn id="48" idx="6"/>
            <a:endCxn id="46" idx="0"/>
          </p:cNvCxnSpPr>
          <p:nvPr/>
        </p:nvCxnSpPr>
        <p:spPr>
          <a:xfrm>
            <a:off x="5435640" y="2170080"/>
            <a:ext cx="2089440" cy="89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4:21:38Z</dcterms:created>
  <dc:creator>inet</dc:creator>
  <dc:description/>
  <dc:language>en-US</dc:language>
  <cp:lastModifiedBy>virgile</cp:lastModifiedBy>
  <dcterms:modified xsi:type="dcterms:W3CDTF">2008-03-26T09:58:41Z</dcterms:modified>
  <cp:revision>7</cp:revision>
  <dc:subject/>
  <dc:title>Diapositive 1</dc:title>
</cp:coreProperties>
</file>