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7A3-7BE9-4A09-8FE7-5F7F028C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B33-5921-453D-A577-368980A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DCB-F72D-4857-86CB-1E475A2C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566-7C18-436F-A4EA-58C10CA9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44F-F896-432E-8660-3840B44E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2FB-04F8-46CC-8545-C314185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10C-ED21-4861-BA5C-2D289BD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07D-171F-42AF-A1B7-417710CF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161-9413-4CCE-908A-74A9D0D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741-3E6F-4A12-A050-5B80ADD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FD1-1354-4A24-9389-D3CFD58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0CC-F904-4746-B109-40B2D4E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08B-1D42-4658-9C9B-04D2E59B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549360"/>
            <a:ext cx="8569080" cy="5759280"/>
            <a:chOff x="324000" y="549360"/>
            <a:chExt cx="8569080" cy="5759280"/>
          </a:xfrm>
        </p:grpSpPr>
        <p:sp>
          <p:nvSpPr>
            <p:cNvPr id="42" name=""/>
            <p:cNvSpPr/>
            <p:nvPr/>
          </p:nvSpPr>
          <p:spPr>
            <a:xfrm>
              <a:off x="2268360" y="1052640"/>
              <a:ext cx="6624720" cy="525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32360" y="54936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0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2728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1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oating Poi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5280" y="515772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6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pread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77080" y="306864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5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usting Form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720" y="3789360"/>
              <a:ext cx="1295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4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36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2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empo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7280" y="307008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3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mbin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4" idx="4"/>
              <a:endCxn id="49" idx="0"/>
            </p:cNvCxnSpPr>
            <p:nvPr/>
          </p:nvCxnSpPr>
          <p:spPr>
            <a:xfrm rot="16200000">
              <a:off x="3094920" y="2889720"/>
              <a:ext cx="360720" cy="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324000" y="1916280"/>
              <a:ext cx="1295280" cy="1079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NTL 2005 C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C Analysis Toolbox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4"/>
            </p:cNvCxnSpPr>
            <p:nvPr/>
          </p:nvCxnSpPr>
          <p:spPr>
            <a:xfrm flipH="1" rot="16200000">
              <a:off x="1060560" y="2906280"/>
              <a:ext cx="1119600" cy="1297440"/>
            </a:xfrm>
            <a:prstGeom prst="bentConnector3">
              <a:avLst>
                <a:gd name="adj1" fmla="val 60373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51" idx="4"/>
              <a:endCxn id="49" idx="2"/>
            </p:cNvCxnSpPr>
            <p:nvPr/>
          </p:nvCxnSpPr>
          <p:spPr>
            <a:xfrm flipH="1" rot="16200000">
              <a:off x="1492200" y="2474640"/>
              <a:ext cx="614880" cy="1656000"/>
            </a:xfrm>
            <a:prstGeom prst="bentConnector2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4"/>
              <a:endCxn id="45" idx="2"/>
            </p:cNvCxnSpPr>
            <p:nvPr/>
          </p:nvCxnSpPr>
          <p:spPr>
            <a:xfrm flipH="1" rot="16200000">
              <a:off x="3400920" y="4023360"/>
              <a:ext cx="1548360" cy="18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6" idx="4"/>
              <a:endCxn id="45" idx="6"/>
            </p:cNvCxnSpPr>
            <p:nvPr/>
          </p:nvCxnSpPr>
          <p:spPr>
            <a:xfrm rot="5400000">
              <a:off x="6172920" y="4345920"/>
              <a:ext cx="1549800" cy="11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7" idx="4"/>
              <a:endCxn id="45" idx="0"/>
            </p:cNvCxnSpPr>
            <p:nvPr/>
          </p:nvCxnSpPr>
          <p:spPr>
            <a:xfrm rot="5400000">
              <a:off x="5579280" y="5012640"/>
              <a:ext cx="2890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4"/>
              <a:endCxn id="49" idx="7"/>
            </p:cNvCxnSpPr>
            <p:nvPr/>
          </p:nvCxnSpPr>
          <p:spPr>
            <a:xfrm rot="5400000">
              <a:off x="4001040" y="2441520"/>
              <a:ext cx="518760" cy="1055520"/>
            </a:xfrm>
            <a:prstGeom prst="bentConnector5">
              <a:avLst>
                <a:gd name="adj1" fmla="val 322430"/>
                <a:gd name="adj2" fmla="val 226714"/>
                <a:gd name="adj3" fmla="val 247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9" idx="6"/>
              <a:endCxn id="46" idx="2"/>
            </p:cNvCxnSpPr>
            <p:nvPr/>
          </p:nvCxnSpPr>
          <p:spPr>
            <a:xfrm flipV="1">
              <a:off x="3922560" y="3608640"/>
              <a:ext cx="29548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9" name=""/>
          <p:cNvCxnSpPr>
            <a:stCxn id="48" idx="6"/>
            <a:endCxn id="46" idx="0"/>
          </p:cNvCxnSpPr>
          <p:nvPr/>
        </p:nvCxnSpPr>
        <p:spPr>
          <a:xfrm>
            <a:off x="5435640" y="2170080"/>
            <a:ext cx="2089440" cy="89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1:38Z</dcterms:created>
  <dc:creator>inet</dc:creator>
  <dc:description/>
  <dc:language>en-US</dc:language>
  <cp:lastModifiedBy>virgile</cp:lastModifiedBy>
  <dcterms:modified xsi:type="dcterms:W3CDTF">2008-03-26T09:58:41Z</dcterms:modified>
  <cp:revision>7</cp:revision>
  <dc:subject/>
  <dc:title>Diapositive 1</dc:title>
</cp:coreProperties>
</file>